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AC3-1369-42C3-8C48-E75530F4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FC1-87C4-4803-A664-059A481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429-3E72-4311-AC82-606C5D18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624-08AC-4EB0-9F34-AD04EF0B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6A3-0598-456A-804A-03AC443C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64D-A2D0-4408-B220-8DE638B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96A-9356-4B52-B870-40DBDBE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C4E-CC45-4153-AF3D-A8B2544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372-4A37-4BD4-9965-041C2F7F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518-ACE9-41DB-9858-FC93C4C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B7F-B691-49F8-884C-5E0BEA25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6E3-25BF-4100-A95C-89172AE7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F3EA-AA1D-4E60-A44C-20E79FFF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mitosis movie"/>
          <p:cNvPicPr/>
          <p:nvPr/>
        </p:nvPicPr>
        <p:blipFill>
          <a:blip r:embed="rId1"/>
          <a:stretch/>
        </p:blipFill>
        <p:spPr>
          <a:xfrm>
            <a:off x="762120" y="4191120"/>
            <a:ext cx="1830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hase of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cycl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60200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8520" y="3809880"/>
            <a:ext cx="74030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 of interphase in which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grows to mature size and car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 its j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429000" y="518148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d-ana"/>
          <p:cNvPicPr/>
          <p:nvPr/>
        </p:nvPicPr>
        <p:blipFill>
          <a:blip r:embed="rId1"/>
          <a:stretch/>
        </p:blipFill>
        <p:spPr>
          <a:xfrm>
            <a:off x="5257800" y="380880"/>
            <a:ext cx="35272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736800" y="182880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90120" y="3635280"/>
            <a:ext cx="79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48120" y="464832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has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 cycl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22200" y="198108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03440" y="3635280"/>
            <a:ext cx="746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cell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sp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of their time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66680" y="53197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of inter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meta green diag"/>
          <p:cNvPicPr/>
          <p:nvPr/>
        </p:nvPicPr>
        <p:blipFill>
          <a:blip r:embed="rId1"/>
          <a:stretch/>
        </p:blipFill>
        <p:spPr>
          <a:xfrm>
            <a:off x="5410080" y="380880"/>
            <a:ext cx="30387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order in which body cells lose their ability to control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497120" y="228600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3635280"/>
            <a:ext cx="533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2 identical ar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ake up a chromos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05740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NA that is all spread out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nterphase nucleus is call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831320" y="190512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hroma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7360" y="3200400"/>
            <a:ext cx="769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in which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clear membrane and nucleol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appear and the DNA scrunch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791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is part of interphase ce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the molecules and organel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for cell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290400" y="243828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6640" y="3429000"/>
            <a:ext cx="8868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2 copies of each chromo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called ______________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omosomes because are the same siz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shape, and carry genes for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tra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43200" y="4038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olog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structur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the poles whic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tach  to the spindle fibers and pull the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421160" y="350532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ntri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6000" y="4724280"/>
            <a:ext cx="73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above is in ______ph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4800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spindle fibers centrioles"/>
          <p:cNvPicPr/>
          <p:nvPr/>
        </p:nvPicPr>
        <p:blipFill>
          <a:blip r:embed="rId1"/>
          <a:stretch/>
        </p:blipFill>
        <p:spPr>
          <a:xfrm>
            <a:off x="5791320" y="457200"/>
            <a:ext cx="3038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chromatin scrunches together it is called a 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660480" y="106668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hrom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5600" y="2819520"/>
            <a:ext cx="632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2 identical ar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make up a chrom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00200" y="4876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hromat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chromatid arm"/>
          <p:cNvPicPr/>
          <p:nvPr/>
        </p:nvPicPr>
        <p:blipFill>
          <a:blip r:embed="rId1"/>
          <a:stretch/>
        </p:blipFill>
        <p:spPr>
          <a:xfrm>
            <a:off x="6934320" y="4038480"/>
            <a:ext cx="16477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73572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0760" y="3352680"/>
            <a:ext cx="818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44956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3733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4800" y="12952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5800" y="36352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cell division in whic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clear membrane return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omosomes spread out into chromat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053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alliumanaphase"/>
          <p:cNvPicPr/>
          <p:nvPr/>
        </p:nvPicPr>
        <p:blipFill>
          <a:blip r:embed="rId1"/>
          <a:stretch/>
        </p:blipFill>
        <p:spPr>
          <a:xfrm>
            <a:off x="4724280" y="609480"/>
            <a:ext cx="35308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pot that holds the 2 chromatid copies together is called a 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907640" y="20574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ntrom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60" y="365760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hase of the cell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cells stop dividing all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66680" y="53197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centromere 2"/>
          <p:cNvPicPr/>
          <p:nvPr/>
        </p:nvPicPr>
        <p:blipFill>
          <a:blip r:embed="rId1"/>
          <a:stretch/>
        </p:blipFill>
        <p:spPr>
          <a:xfrm>
            <a:off x="6781680" y="380880"/>
            <a:ext cx="202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3400" y="12952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6840" y="3429000"/>
            <a:ext cx="753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ell above is a _________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imal         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800600" y="35053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ou can see the cell plate forming in center instea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 a cleavage fu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alliumtelophase"/>
          <p:cNvPicPr/>
          <p:nvPr/>
        </p:nvPicPr>
        <p:blipFill>
          <a:blip r:embed="rId1"/>
          <a:stretch/>
        </p:blipFill>
        <p:spPr>
          <a:xfrm>
            <a:off x="4419720" y="533520"/>
            <a:ext cx="35305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bstance that causes can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15680" y="160020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arcin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9360" y="3886200"/>
            <a:ext cx="843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after S pha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cells make the molecu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organelles needed for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505320" y="579132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in which chromatids separate and move to opposi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s of the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373400" y="25146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89040" y="3635280"/>
            <a:ext cx="688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very first dividing phase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90720" y="4267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where cells spend most of their time. They grow bigger and they do their jo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body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62000" y="2819520"/>
            <a:ext cx="72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43480" y="380988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 the phases of mitosis in ord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rting with inter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14400" y="5181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phase, prophase, metaphase, anaphase, telophase, cytoki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4190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 a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7600" y="1066680"/>
            <a:ext cx="38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eavage fu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84720" y="3635280"/>
            <a:ext cx="689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_____________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nimal          a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429000" y="36576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 animal</a:t>
            </a:r>
            <a:br>
              <a:rPr sz="36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ts don</a:t>
            </a: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 have cleavage furr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leavage furrow"/>
          <p:cNvPicPr/>
          <p:nvPr/>
        </p:nvPicPr>
        <p:blipFill>
          <a:blip r:embed="rId1"/>
          <a:stretch/>
        </p:blipFill>
        <p:spPr>
          <a:xfrm>
            <a:off x="4419720" y="609480"/>
            <a:ext cx="41148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 in which a cell grows too big for its DNA to handle the demand fo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07280" y="2590920"/>
            <a:ext cx="32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NA over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where the cytoplasm splits into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604520" y="2286000"/>
            <a:ext cx="37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8920" y="3352680"/>
            <a:ext cx="79088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phases of the cell cycle 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der starting with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600200" y="495288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S    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DNA is all spread out as chromat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nd nuclear membrane is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DNA scrunches up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chromosomes are first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  Made up of   G1, S, G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  Chromosomes line up in middl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640" y="17524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2860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9240" y="47242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8880" y="571500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6280" y="380880"/>
            <a:ext cx="8439120" cy="9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 is copied and cell prepare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atid arms separate and mov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site end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osomes unwind into chromat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&amp; nucleus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ar membrane &amp; nucleol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32920" y="167652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049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08880" y="4419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61520" y="563868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nuclei ar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divid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  Centrosomes cont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ioles &amp; spindle fib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 next to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Cytoplasm is split between two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 Spindle fibers and centrio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37480" y="12193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2209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61520" y="304812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08520" y="48769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08880" y="57913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hase (P)     Metaphase (M)    Anaphase (A)    Telophase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has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76720" y="4572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 division in bacteria cells is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82720" y="137160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inary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9760" y="3635280"/>
            <a:ext cx="683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in wh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NA is cop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  (synthe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binary fission"/>
          <p:cNvPicPr/>
          <p:nvPr/>
        </p:nvPicPr>
        <p:blipFill>
          <a:blip r:embed="rId1"/>
          <a:stretch/>
        </p:blipFill>
        <p:spPr>
          <a:xfrm>
            <a:off x="533520" y="457200"/>
            <a:ext cx="229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Cell is reading the DNA cod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ts job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Cell makes a copy of its DN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Cells leave the cell cycle and stop div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Division of chromosomes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57200" y="12952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87600" y="2743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18480" y="380988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8600" y="152280"/>
          <a:ext cx="8610480" cy="5335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Mitosis (M)     Cytokinesis 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534960" y="4800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Division of cytoplasm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Cell makes the molecules and organel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for cell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  Made up of telophase, anaphase, prophas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meta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89880" y="236232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52280"/>
          <a:ext cx="8610480" cy="5335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G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Mitosis (M)     Cytokinesis 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12"/>
          <p:cNvSpPr/>
          <p:nvPr/>
        </p:nvSpPr>
        <p:spPr>
          <a:xfrm>
            <a:off x="611280" y="3657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123720" y="1371600"/>
            <a:ext cx="2667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hromatin to chromosomes"/>
          <p:cNvPicPr/>
          <p:nvPr/>
        </p:nvPicPr>
        <p:blipFill>
          <a:blip r:embed="rId1"/>
          <a:stretch/>
        </p:blipFill>
        <p:spPr>
          <a:xfrm>
            <a:off x="1600200" y="2362320"/>
            <a:ext cx="61484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teins that control the cell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982520" y="145404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ycl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10320" y="3124080"/>
            <a:ext cx="5241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which the nuclea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mbrane is pres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DNA is spread ou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chromat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267080" y="56386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inter diag"/>
          <p:cNvPicPr/>
          <p:nvPr/>
        </p:nvPicPr>
        <p:blipFill>
          <a:blip r:embed="rId1"/>
          <a:stretch/>
        </p:blipFill>
        <p:spPr>
          <a:xfrm>
            <a:off x="5715000" y="3048120"/>
            <a:ext cx="29145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e of cell division in eukaryotic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lls that results in 2 identic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ughter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7800" y="289548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4267080"/>
            <a:ext cx="70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 the phases of mitosis in o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ing with pro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5486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hase, metaphase, anaphase, telophase, cytoki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mitosis that follow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735720" y="18288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elo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1640" y="3635280"/>
            <a:ext cx="818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ase of the cell cycle that follows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47920" y="4876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itosis  (propha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network of fib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attach and pul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hromosom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art is called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totic 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135880" y="236232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i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83680" y="3886200"/>
            <a:ext cx="476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cell i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114800" y="4572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spindle labeled"/>
          <p:cNvPicPr/>
          <p:nvPr/>
        </p:nvPicPr>
        <p:blipFill>
          <a:blip r:embed="rId1"/>
          <a:stretch/>
        </p:blipFill>
        <p:spPr>
          <a:xfrm>
            <a:off x="5486400" y="457200"/>
            <a:ext cx="303840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d-pro"/>
          <p:cNvPicPr/>
          <p:nvPr/>
        </p:nvPicPr>
        <p:blipFill>
          <a:blip r:embed="rId2"/>
          <a:stretch/>
        </p:blipFill>
        <p:spPr>
          <a:xfrm>
            <a:off x="380880" y="3505320"/>
            <a:ext cx="32403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S, and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ake up this pha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cell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974320" y="228600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57200" y="4191120"/>
            <a:ext cx="851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near the nucleus that contains the centrioles and helps to organize spindle formation 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64832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entr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lace in the cell membrane of an animal cell that pinches in during cytokinesis is called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4440" y="24382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eavage  fu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960" y="3657600"/>
            <a:ext cx="8314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 cells can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 pinch to divid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ead they form a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div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48320" y="42670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ell 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ustin Zahm</cp:lastModifiedBy>
  <dcterms:modified xsi:type="dcterms:W3CDTF">2014-02-21T19:40:37Z</dcterms:modified>
  <cp:revision>54</cp:revision>
  <dc:subject/>
  <dc:title>asdfs</dc:title>
</cp:coreProperties>
</file>